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086-DBC5-4BB7-96B0-3B6DC74E209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517-436B-4205-8639-3F3DBA83F538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9E6B-FA41-4852-86FC-EEF3144FA04A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403-F785-4EAF-A036-8E28718A2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07E-2ADB-4D25-870A-98C00888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6661-AF27-430A-81CD-3AADEBA7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ED2-70A9-450C-B36B-2086008B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C17F-E28C-414E-A9C3-F93B200A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2BEB-ADFC-4F35-BAB5-2FAE221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6311-7F70-4F3F-8A0F-BD6A732E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B8D2-0AA5-4C6C-AAFE-1912F3F0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154F-B4B9-4CD8-A8E8-A8C5D9B0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5D27-E9C2-4A2E-93DA-DD70A3D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BED4-2EEF-42DA-AC97-1892B58F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DF7-8BCE-46BE-BB86-932FBD5E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CD48-A8C8-40E9-9C25-C4B306F3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221-43A3-4A7D-A2BC-73814615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FA0C-61B3-45EC-A89A-6679E52A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4252-EA59-4C25-B00F-E34A8C0B1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54E4-D8C1-4DBA-A115-78E12B2D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978-6558-435F-A251-D430576B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531-F9DB-44D8-AD80-B414DC8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840-3889-4ED3-8973-B9259E8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125-D028-4AC3-B66A-71EC01C0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487A-DBA6-4B50-AE87-7BFC3505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A4F-4819-4802-9488-8973D3E8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15B1-29ED-4F7E-968F-34EB7CC2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EBE9-C641-4E5B-9C4B-B6D2436A3EEB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49" name="AutoShape 8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1B9A-C069-4AA5-ADD5-273B86769D09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hillipsacademyhighschoollibrary.wikispaces.com/" TargetMode="External"/><Relationship Id="rId2" Type="http://schemas.openxmlformats.org/officeDocument/2006/relationships/hyperlink" Target="http://cuffemstacademy.wikispaces.com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kaykay99.wikispaces.com/hom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in the Library Media C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brary Media Center serves as a technology center for both teachers and students in the buil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5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brarian provides instruction and support that prepares students to be creative, confident, and responsible users of technology and Internet communication too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479160"/>
            <a:ext cx="7666200" cy="76428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ways to incorporate technologies in instructional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adopt different technology tools for the right projects using professional jud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ll continue with my professional development training to further-develop my own technological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ents’ 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1"/>
              </a:rPr>
              <a:t>http://phillipsacademyhighschoollibrar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cuffemstacademy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thical Use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to seek diverse perspectives, gather and use information online ethically, and use social tools responsibly and saf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and understand Internet copyright basi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learn about cyberbullying and how to prev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Produ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create, both individually 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s, classroom projects using different technology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processing/Power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/Web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Web 2.0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cameras/voice record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chnology Incorpo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 is one of my favorite Web 2.0 t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a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typ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udents with basic knowledge and skills of simple web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tudents build their multimedia portfolio for their college ap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paper load for both teachers and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student understand the importance of following copyright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05440" cy="806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da31e"/>
                </a:solidFill>
                <a:uFillTx/>
                <a:latin typeface="Arial"/>
                <a:hlinkClick r:id="rId2"/>
              </a:rPr>
              <a:t>http://kaykay99.wikispaces.com/hom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9T15:36:09Z</dcterms:created>
  <dc:creator>knight knight</dc:creator>
  <dc:description/>
  <dc:language>en-US</dc:language>
  <cp:lastModifiedBy>Yamei</cp:lastModifiedBy>
  <cp:lastPrinted>2011-07-10T18:23:18Z</cp:lastPrinted>
  <dcterms:modified xsi:type="dcterms:W3CDTF">2011-07-12T23:58:27Z</dcterms:modified>
  <cp:revision>184</cp:revision>
  <dc:subject/>
  <dc:title>Technology in the Media Center</dc:title>
</cp:coreProperties>
</file>